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2F44F-F3BB-41D3-A6AE-FF9603AB02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24A32-1781-4B27-9579-C432923B8C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9A7F5-3BB9-42F4-BD23-CFE251DF6F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FF20A-B433-4F78-AFBD-027CB4449A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EB9A6-CD4F-4953-8B05-811000E62D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9D1C3-A062-4248-83CD-5C10E93C34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76BD4-1083-42B8-92D5-6E10508820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70409-86D5-4483-AE34-165BCD78E3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0DF69-C793-49AD-B744-7EFA580D6A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DF8CE-4C20-401B-8A2D-86D5F0200E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64AB5-307C-4497-8F03-A8AB87D8A2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4B65A-970E-4D04-A8E5-644B32B597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E3293-9959-49D2-94EF-3EF0B807A3F0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igrating to WDI 3.2 on Win2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e Edenfie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Manager e-Commerce System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Hagemeyer North America, Inc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WDI 3.2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miliarity – we’ve been using DI since 199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of migration from DI 2.1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e of future migr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Patterns for e-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decision to include DI in Websphere fam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older EDI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DACOMS, ODETTE, UCS, X.12 V2R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for new XML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AGIS BODs, Commerce 1 xCBL, Rosetta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QSeries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Window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certainty about future ERP 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/390, AS/400, Unix? Some combination?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rything now has a Windows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to extend the life of our S/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ed implementation of replac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ed business growth through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AIX expertise and 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 seemed adeq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eadth of tools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lier release of new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entry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y we chose Data Transformation map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M told us to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ier future mig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tter Webspher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’t have to learn both m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XM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y to any (almo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esigning data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Hagemeyer Business Message (HB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ere going to re-map everything any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liked the mapper bet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we thought we were going to do…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message based integration hub architecture based on IBM Patterns for e-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ize all documents to HBM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for message 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Integrator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ro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ple” data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 archi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WDI for “complex” data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05560" indent="-205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MQSeries Workflow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-to-end aud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5720" indent="-2570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running transaction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design point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support existing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support new busines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easily accommodate changes in the operating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t be able to handle the lo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ponse time requirements are getting sh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 in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43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Flexibility and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June 2002 we started to build it…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mbled the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ed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an documenting as-is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HBM form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building the HNA EDI “bolt-on” for the H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Movex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vex e-Collaborator - XML over MQSe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 all legacy EDI trans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olidate transactions with common trading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d implementation by business subsystem – purchasing and A/P fir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e rules change, but the project surv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ject scope 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GS put on hold – late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UNITE – target ERP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d 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d to support Vallen ERP system temporar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ERP is CamBa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ded to map Vallen EDI to ADF di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term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len ADFs are very “EDI-like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er Vallen interface changes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e to develop HBM for CamB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-state and Allied put on 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e rules change again…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UNITE cancelled late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Bar put on 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now longer term n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sh we had mapped to the HB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andoned WW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ed using new architecture to meet new requirements (XML, CS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d Websphere Application Server (W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S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solution components now built in 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o what did we actually build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sage based integration hub using MQS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Q enabled legacy application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MQI used for routing and simple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programs used for utility fun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arch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parser, search tool, comparison tool, ro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 used for https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QSS used for VAN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used for complex data trans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-EBCDIC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ed and zoned decimal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Segment delim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blo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message per trans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CR&gt;&lt;LF&gt; sepa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F record lengths have to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are w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WDI 3.2? Why Windows? Why DT ma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id we plan to do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d we actually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we are n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ill it all e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 (continued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-MQSeries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le se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 character queue name li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to physical filename ma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T mapp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loop function (XML large text field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-to-many transactions (outbound 8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-to-one transactions (outbound 8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 we encountered (continued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DI 3.2 in general and the DT mapper in particular are actually new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ersion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y PM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support ev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action store support evol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in how trading partners are handled – TP resolution, map rule selection, transaction store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from one document type to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ces from the way it works with S/R m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ere are we today?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migrated all Vallen VAN traffic to MQ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MQ enabled all Vallen EDI application interfa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developed DT maps for all Vallen transactions and trading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re currently migrating Vallen trading partners and maps to W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en will it end?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migration to WDI 3.2 complete in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rate CamBar to WDI 3.2 in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Web site under construction – to be integrated with all the legacy ER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requirements appear all th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over the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1/AS2, HTTPs, SMTP, MQSeries, FTP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l-time integ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XML “standard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400" indent="-28296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ERP in 2007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process – there is no end in s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in progres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ules keep cha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uture is still uncerta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rchitecture is flexible enough to handl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is better than ex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gemeijer &amp; Co. was established in the former Dutch East Indies (now Indonesia) in 1900. Today, Hagemeyer N.V. is headquartered in Naarden, Netherlands (near Amsterdam). The company has 22,000+ employees serving more than a million customers in 37 countries worldwi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gemeyer North America, Inc. (HNA), A wholly owned subsidiary of Hagemeyer N.V., is a wholesale distributor focusing on business-to-business markets in electrical, safety, and industrial products and services throughout North America. HNA’s 4900+ associates serve more than 100,000 customers from approximately 500 locations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Hagemeyer%20NA%20-%20COLOR" descr=""/>
          <p:cNvPicPr/>
          <p:nvPr/>
        </p:nvPicPr>
        <p:blipFill>
          <a:blip r:embed="rId1"/>
          <a:stretch/>
        </p:blipFill>
        <p:spPr>
          <a:xfrm>
            <a:off x="584280" y="654120"/>
            <a:ext cx="3022560" cy="5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ur environment when we started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gemeyer acquisitions in the U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99–2000 Hagemeyer N.V. acquired 4 U.S. compan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eron &amp; Barkley Co. (CamBar) - ~55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/390 – in-house ERP – DI2.1 trans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-40% of business transactions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len Safety Supply – ~35 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/400 – in-house ERP – Harbinger TLE trans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-30% of business transactions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i-state Electrical Supply – ~8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X – package ERP – minimal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ied Electrical – ~2% of HNA s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040" indent="-24840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X – modified package ERP - No E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Hagemeyer Global Solution ( HGS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ERP – Movex ERP on AS/400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instances (3 OR 4) in Europe, Australia, and the U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lt-on” solutions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ehousing/log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Commerce (we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intelli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d migration by Operating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gemeyer acquisitions in the US, Canada, and Mexico formally combine into Hagemeyer North America, Inc. (H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operating on separate ERP systems as semi-independent operating companies (OpC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NA OpCos sent associates to the Netherlands to participate on Hagemeyer Solution Teams (HST) developing and implementing the Hagemeyer Global Solution (H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 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 HST reported that the HGS for EDI will not satisfy HNA requirements without a lot mor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decided to build HNA specific EDI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NA does more than twice as much EDI as the rest of Hagemeyer combined. We hoped we could “sell” our solution to the rest of Hagemeyer when we were d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ex is still the target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6560" indent="-19656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gemeyer put the entire HGS project “on hol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decided to migrate all US OpCos to one of our existing legacy systems (project Unite) – ERP target un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5480" indent="-24552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NA budget for HGS is re-allocated to project Un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3 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e target ERP selected – CamBar system with m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d migration by customer segment and ge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3 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l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Unite postponed until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gration to common EDI solution continu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target ERP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st transactions using the new infrastructure go l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5000"/>
              </a:lnSpc>
              <a:spcBef>
                <a:spcPts val="400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XML based transa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dget allocated to HGS/Unite project runs out 12/31/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jor events in the timeline (continued…)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NA reorganizes EDI support resources into e-commerce Systems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migrated transactions go live July 1,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Vallen migration in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e CamBar migration i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e project may have eliminated the other systems by 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Lee Edenfield</cp:lastModifiedBy>
  <dcterms:modified xsi:type="dcterms:W3CDTF">2004-07-16T14:54:07Z</dcterms:modified>
  <cp:revision>881</cp:revision>
  <dc:subject/>
  <dc:title>IBM Software Group</dc:title>
</cp:coreProperties>
</file>