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5527A03-CDB7-4ABA-B2F5-857446BE8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/Transformation Software address 8 of the 14 CIO prio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A1DEA-ABA4-469E-9282-6FFA5CBF1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40742-B076-42D6-A6E8-90FD3CB96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7503-471B-4B73-8286-ECF62B7AD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514A-4DA5-4380-9110-547C07FAF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CAE7-B7F9-43D6-BA2A-864FE7071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9FD5-C59C-415C-89B3-2821088CB7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31CF-35AD-4CAD-9297-8D06A02FE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C9C2B-9873-4724-B546-78374A93D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21D20-598E-4575-B5BA-71F66E560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046A-B99B-453E-8462-2EFF236BB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CEEBE-0E10-46B6-A843-0FBE08E1C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31EA-3DF9-4294-B42E-F46A344D6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60F2-E73A-45A5-A6DD-A8421D94A43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1880" y="208404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DI 3.2 Migration Flight Plan</a:t>
            </a:r>
            <a:br>
              <a:rPr sz="3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bert Downey &amp; Randy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77120" y="3625920"/>
            <a:ext cx="1766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70 Terminal/Terminal Em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s w/real-time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lone DI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DataInterchange Administration Interfac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8000" y="1324080"/>
          <a:ext cx="68486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324080"/>
                    <a:ext cx="68486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3784680"/>
          <a:ext cx="7646760" cy="18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784680"/>
                    <a:ext cx="764676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52640" y="1243080"/>
            <a:ext cx="73483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/SM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Operating Systems /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nslatio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Release/Versions/Processing (i.e. dev., test, pro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Trans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s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Interface Compon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Software /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Integrated Business Applications – Operating Systems/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vol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 form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4440" y="517320"/>
            <a:ext cx="8534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89040" y="4844880"/>
            <a:ext cx="587520" cy="986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9040" y="4844880"/>
            <a:ext cx="587160" cy="986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9760" y="573732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11880" y="3532320"/>
            <a:ext cx="1328760" cy="50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162840" y="4116240"/>
            <a:ext cx="677520" cy="55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762600" y="4116240"/>
            <a:ext cx="677880" cy="55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7362720" y="4116240"/>
            <a:ext cx="677880" cy="555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5113080" y="3386160"/>
            <a:ext cx="1181160" cy="4017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0240" y="3170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67840" y="4719600"/>
            <a:ext cx="106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ulti-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6627960" y="861840"/>
            <a:ext cx="1896840" cy="123696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311880" y="1417680"/>
            <a:ext cx="1725480" cy="1123920"/>
          </a:xfrm>
          <a:prstGeom prst="pie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0720" y="1625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DI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16600" y="936720"/>
            <a:ext cx="169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siness Exchange Service (Interne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3320" y="2511000"/>
            <a:ext cx="1724040" cy="2192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987720" y="4484520"/>
            <a:ext cx="1652760" cy="1105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07240" y="5521320"/>
            <a:ext cx="106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4683000">
            <a:off x="3430800" y="4083840"/>
            <a:ext cx="1114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5600" y="3532320"/>
            <a:ext cx="116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SO Session  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ICS Transa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8920" y="4738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13080" y="1624680"/>
            <a:ext cx="2401920" cy="2112120"/>
            <a:chOff x="3313080" y="1624680"/>
            <a:chExt cx="2401920" cy="211212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3313080" y="1636560"/>
              <a:ext cx="240192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9723800">
              <a:off x="3466080" y="243180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OS/3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814400">
              <a:off x="4833720" y="17726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z/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9520" y="2075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ef7"/>
                  </a:solidFill>
                  <a:latin typeface="Times New Roman"/>
                </a:rPr>
                <a:t>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761600">
              <a:off x="4704480" y="2993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568200">
              <a:off x="4438800" y="2729880"/>
              <a:ext cx="583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MV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C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DB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6000">
              <a:off x="3649680" y="304704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Cloud"/>
          <p:cNvSpPr/>
          <p:nvPr/>
        </p:nvSpPr>
        <p:spPr>
          <a:xfrm>
            <a:off x="1063800" y="1552680"/>
            <a:ext cx="1500120" cy="977760"/>
          </a:xfrm>
          <a:prstGeom prst="pie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14520" y="2219400"/>
            <a:ext cx="973080" cy="145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93680" y="1600200"/>
            <a:ext cx="14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1, AS2, 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32320"/>
            <a:ext cx="2473200" cy="13125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89280" y="3605040"/>
            <a:ext cx="1649160" cy="12398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751400">
            <a:off x="1915560" y="4176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b6b3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838680" y="3677760"/>
            <a:ext cx="374400" cy="14590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40000">
            <a:off x="5132160" y="3344400"/>
            <a:ext cx="1158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1179400">
            <a:off x="5712480" y="236844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dite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760840" y="1955880"/>
            <a:ext cx="215640" cy="487080"/>
            <a:chOff x="2760840" y="1955880"/>
            <a:chExt cx="215640" cy="487080"/>
          </a:xfrm>
        </p:grpSpPr>
        <p:sp>
          <p:nvSpPr>
            <p:cNvPr id="211" name=""/>
            <p:cNvSpPr/>
            <p:nvPr/>
          </p:nvSpPr>
          <p:spPr>
            <a:xfrm>
              <a:off x="2760840" y="1955880"/>
              <a:ext cx="215640" cy="31248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1960" y="2233440"/>
              <a:ext cx="113760" cy="209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56800" bIns="-265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719680" y="1428480"/>
            <a:ext cx="887400" cy="8334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216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219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222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234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10200" y="5641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252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253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367760" y="2871720"/>
            <a:ext cx="201600" cy="420480"/>
            <a:chOff x="7367760" y="2871720"/>
            <a:chExt cx="201600" cy="420480"/>
          </a:xfrm>
        </p:grpSpPr>
        <p:sp>
          <p:nvSpPr>
            <p:cNvPr id="265" name=""/>
            <p:cNvSpPr/>
            <p:nvPr/>
          </p:nvSpPr>
          <p:spPr>
            <a:xfrm>
              <a:off x="7367760" y="2871720"/>
              <a:ext cx="201600" cy="27000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5640" y="3111120"/>
              <a:ext cx="106560" cy="18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85240" bIns="-2685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ase Study:  Our DI 3.1 – WDI 3.2 Migration “flight plan”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ing your Migration Flight Pla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816200" y="1022400"/>
          <a:ext cx="520524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022400"/>
                    <a:ext cx="520524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ompleting your Migration Plan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4 - Determine your migr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5 – Develop an incremental migra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6 – Execute your Migration pl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7 – Begin Leveraging WDI in a eBusiness Centric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7880" y="170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WDI 3.2 Migration Flight Plan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…. The Goals are the sam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our Migration “pre-flight”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readiness Overview (our “air worthiness” che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Study:  Our DI 3.1 – WDI 3.2 Migration “flight pl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What’s keeping CIO’s up at night in 2003?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:  CIO’s  top 14 spending prio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ntegrating systems and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ower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trategic planning/aligning IT and busines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mplementing data security and privacy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Automating/optimizing the 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nabling/enhancing e-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business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/leveraging intellectu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anagement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consumer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training/education/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new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development/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51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IT global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ource: CIO Magazine Apr 1, 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Business Goals…..remain the same……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als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/ Increase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ing the Go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Ex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/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functional business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complexity = lowe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eliabili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izing the BIG opportunity…. </a:t>
            </a:r>
            <a:br>
              <a:rPr sz="1600"/>
            </a:b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hat if you could….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 addressing ALL of the TOP 7 priorities of your 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of the TOP 10 CIO’s priorit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come the “epi-center” of the “second phase” of ebusines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ly – Customers and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e to your corporation’s ROI within 12 months!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THE key component of the #1 corporate business challen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Review: 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351080"/>
            <a:ext cx="75009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840" y="666360"/>
            <a:ext cx="8929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readiness Overview…(looking for “air worthiness exceptions)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3720" y="1223640"/>
            <a:ext cx="73483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/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 / Platform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Base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720" y="10839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 and Application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35120" y="1677960"/>
          <a:ext cx="70675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677960"/>
                    <a:ext cx="70675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Environmental / Business Applications Architectur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98760" y="957240"/>
          <a:ext cx="38322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957240"/>
                    <a:ext cx="38322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7:57Z</dcterms:modified>
  <cp:revision>871</cp:revision>
  <dc:subject/>
  <dc:title>IBM Software Group</dc:title>
</cp:coreProperties>
</file>