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92600-C9B0-4F5E-956C-41439338D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FEF89-9FDF-42FF-808E-E94CE23CF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B1D5C-EF97-47AC-88AC-A765C44FB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59ECF-7FFF-4282-A526-3242EAD10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AEC82-9601-4A13-A52B-EC18DC26A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6C144-87B4-459D-9B63-C1E2C93DF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29C1C-C16B-4B85-9532-258434778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A074B-4B76-4687-9334-BFE6F7265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F3D56-041B-4A47-A9BF-A2B6DF21F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65819-584D-46B8-AFD4-1C05E55ED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EAF70-6A6D-4913-ACFB-6E69FC15A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F09F3-CCBE-4DE7-94DF-E26023DF5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2CF84-05BE-4861-AE94-6B2EF80DEB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1998-12-04T22:13:23Z</dcterms:modified>
  <cp:revision>0</cp:revision>
  <dc:subject/>
  <dc:title>PowerPoint Presentation</dc:title>
</cp:coreProperties>
</file>